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A20-CE5E-4112-92CD-9329A848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096-5B1C-4DCA-B6B9-C4AAFD99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124-9DB7-4BD2-A7B6-FAE2780F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8BD-5589-4DC6-895C-D5E5414A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C4E8-9ABA-473D-AD05-C018059C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6417-7F8C-4F9B-8E99-5466CF72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3ACE-61DE-4C7A-B527-C4367C27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B71B-96E1-4BE5-8A38-FF43ABB1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D86C-CDEE-4E2D-A30B-4F525393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7D92-2C33-48F0-ABFF-590BE65B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9D1E-C73E-4ABA-91E2-48AF43CC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7C2-1815-4DBA-B3EC-B1DDEF3F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7E78-A95D-4317-ADE4-1B86D87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1AD9-6658-490C-867C-62818DD7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0A7B-A3F1-4E1B-A911-7CA5E5EA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EBAD-66EE-4AAB-A2E9-E5CB0DC7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36CF-90BD-45A4-B6CA-7350BDA1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3CB-D4F3-4493-A0D3-90169ECB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B62-E22A-4784-99FF-291B73AA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D35-61AF-438B-8B27-C467293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3A0-9138-4CE8-908F-4D28A88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D05-C3EC-4D6B-B55F-F9228CCD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C01-2AEA-41D8-A028-62AB9EA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3C7-387D-45D3-BC57-7F353F3C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58F9-0C73-43E7-8B1C-671F4609F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EF3D-146A-4569-AD51-EDFFF7DFD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7391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terial and Non-Material Cul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Journal Questions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you own that would tell an alien you are Canadi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bout things you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Material Cul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 objects produced and/or used by the society to which you be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g. Comb, money, photos, library card, sandw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opologists studies thes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on-Material Cul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s of culture that are not phy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g. Spoken language, ideas, stories, my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opologists study these th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Are the following aspects of culture material or non-material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ys of beha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gious Belie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b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alu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s – the ideas, beliefs, and ways of behaving that are valuable or important to people of a particular 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a very important aspect of non-material 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your valu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S.A.S.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(Smart Anthropologist Students </a:t>
            </a:r>
            <a:r>
              <a:rPr b="1" i="1" lang="en-US" sz="3200" spc="-1" strike="noStrike">
                <a:solidFill>
                  <a:srgbClr val="cc6600"/>
                </a:solidFill>
                <a:latin typeface="Wingdings"/>
                <a:ea typeface="Wingdings"/>
              </a:rPr>
              <a:t>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country other than Can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E-Journal: research, describe, and illustra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aspects of the country’s material cultu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uildings, food, money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aspects of non-material cultu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eligion, beliefs, ideas,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0:01:49Z</dcterms:created>
  <dc:creator>Administrator</dc:creator>
  <dc:description/>
  <cp:keywords/>
  <dc:language>en-US</dc:language>
  <cp:lastModifiedBy>Administrator</cp:lastModifiedBy>
  <dcterms:modified xsi:type="dcterms:W3CDTF">2006-02-22T00:36:19Z</dcterms:modified>
  <cp:revision>3</cp:revision>
  <dc:subject/>
  <dc:title>Cul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